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57D-2005-4F4E-928E-7D6A53BE05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6E6-D8D2-493C-A929-39A0B186E29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FE61-B12D-47E6-B320-DDE495506D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65C2-85EB-40CB-A425-9FAE99B357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192-6211-420D-8016-AE74C9D2D80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DDE-8ABC-4FF0-89F0-2623F66EFE4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629-4A04-4FC5-B594-C607A6DFA6B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0DD-86F6-4C94-B698-78592D1D8D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재는 장소 옮겨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5265-C994-419E-9482-A33CCB6B381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657-5A0E-412E-B68E-2DA091DBAAC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E4F-2DFD-4469-B5C9-AD3C812D4A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51A-07E5-46A6-B616-40DB56DDB6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CB80-3703-4C58-9AAB-A0E7853D66D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B0F-2024-4A1D-B532-F163525EEA1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8C35-EA8D-4FF7-89D7-9A6C21435E0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552-9159-4C84-8D85-80C96171F28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058-BD85-4095-8967-AC09A05912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A1F-604A-48D8-B7D4-D61A9C01BEF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BED1-D5F6-408F-83C6-2CDFA6D6AB4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E94-700F-4B38-9E4A-8FA6C30429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079-0003-494D-ACDA-F4E5A3D90C9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E2F2-A260-4C73-A8ED-979B3E20ED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24C-9C4C-43F9-A6A9-C251C9330C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6E5-BAD8-42A7-BD5F-F802D634EC8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A45D-A5D7-45DD-9A98-8721F00830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궁정의 후원은 후원자 개인에 의해 좌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9A7-6FBB-49E4-8A5D-FEE11782CD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DA6-EFCA-4B90-B682-C8EE0DD5495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D8F-9C82-4E94-AA17-018C5257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162-DB48-4E97-9BF0-64510BC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2DF-558C-4851-84FC-CCFF6F3E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DB-7C69-4E2D-84E4-B34A9B64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D92-2460-4A7C-9A19-951055B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AB-8BA5-442C-B83A-9CD0E60E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A5D-DF89-4DB2-936A-297A5DC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95F-2E06-44D5-A667-6C901B17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0B0-8585-49DB-93DD-7080BD7E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FC6-267F-4502-B53D-BC77D31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833-A04C-4FDA-B909-A479358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0FC-A8F6-4932-B90A-A3CD40B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A68-BFAA-4747-96C4-580B123769F1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의 제도적 기반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단명한 초기 학회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로마의 린체이 아카데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01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피렌체의 치멘토 아카데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57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메르센느 그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파일:왕립학회의 역사.jpg"/>
          <p:cNvPicPr/>
          <p:nvPr/>
        </p:nvPicPr>
        <p:blipFill>
          <a:blip r:embed="rId1"/>
          <a:srcRect l="23464" t="2523" r="4848" b="6761"/>
          <a:stretch/>
        </p:blipFill>
        <p:spPr>
          <a:xfrm>
            <a:off x="468360" y="158760"/>
            <a:ext cx="4971960" cy="6510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580000" y="5516280"/>
            <a:ext cx="356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런던왕립학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베이컨주의적 이상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과 귀납을 통한 협동적 연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유용하고 실제적인 지식 생산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부의 재정지원 無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학회 운영비는 회원들의 회비에 의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을 위한 경비와 설비는 개인적으로 마련해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을 취미로 여기는 상류층 신사들의 모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학회의 주된 기능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적 연구활동의 수집 및 전달 기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bbk.ac.uk/boyle/researchers/intro_images/incalescence.jpg"/>
          <p:cNvPicPr/>
          <p:nvPr/>
        </p:nvPicPr>
        <p:blipFill>
          <a:blip r:embed="rId1"/>
          <a:stretch/>
        </p:blipFill>
        <p:spPr>
          <a:xfrm>
            <a:off x="468360" y="404640"/>
            <a:ext cx="82929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6092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왕립학회의 공식학술지가 된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『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철학회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』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올덴버그 편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ile:RoyalObservatoryShepherd1824 edited.jpg"/>
          <p:cNvPicPr/>
          <p:nvPr/>
        </p:nvPicPr>
        <p:blipFill>
          <a:blip r:embed="rId1"/>
          <a:stretch/>
        </p:blipFill>
        <p:spPr>
          <a:xfrm>
            <a:off x="-396720" y="333360"/>
            <a:ext cx="9972360" cy="59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왕립 그리니치 천문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플렘스티드 하우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167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4797360"/>
            <a:ext cx="414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리 왕립과학아카데미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6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9" name="Picture 2" descr="파일:왕립 과학아카데미를 방문 중인 루이 14세.jpg"/>
          <p:cNvPicPr/>
          <p:nvPr/>
        </p:nvPicPr>
        <p:blipFill>
          <a:blip r:embed="rId1"/>
          <a:stretch/>
        </p:blipFill>
        <p:spPr>
          <a:xfrm>
            <a:off x="179280" y="133200"/>
            <a:ext cx="4780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풍족한 정부의 지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부 과학자에게 보수 지급 및 관료로서의 업무 할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도서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천문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립식물원 등의 시설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규모 연구 프로젝트 발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e.g.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의 크기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전문 과학자의 양성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까지 전문과학자 양성 교육과정 없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은 여전히 아리스토텔레스 중심의 고전 교육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분류학자 린네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웁살라 대학 의학부 소속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자가 되는 길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자로 사는 길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늘날에는 정형화된 코스 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업으로서의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거에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세기 기술 교육 기관 설립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독일 광산학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 토목학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병학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쿨롱은 토목학교 출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플라스는 포병학교의 교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폴레옹은 라플라스로부터 교육 받은 포병 장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dcso.polytechnique.fr/z-outils/images/site/logoX.gif"/>
          <p:cNvPicPr/>
          <p:nvPr/>
        </p:nvPicPr>
        <p:blipFill>
          <a:blip r:embed="rId1"/>
          <a:stretch/>
        </p:blipFill>
        <p:spPr>
          <a:xfrm>
            <a:off x="755640" y="1268280"/>
            <a:ext cx="6480360" cy="4730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219280" y="1557360"/>
            <a:ext cx="3274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 혁명정부에 의한 설립된 최초의 전문 공학 교육 기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94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플라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그랑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몽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포아송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레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카르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게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뤼삭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프랑스 과학자의 역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량형 개혁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중보건 개혁 등 정부 업무에 활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철도 전설 등의 정부 사업 계획 및 감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자를 양성하는 학교의 교수로 재고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연구는 업무 외 자투리 시간에 하는 개인적인 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독일 연구 대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 교수는 교육자인 동시에 연구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원생을 연구자로 양성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ph.D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제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교육과 연구에 대한 정부의 전폭적인 지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단기적인 이익보다 진리탐구라는 이상 추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영국과 미국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의 수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교육은 여전히 교양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후반까지도 정부의 과학 지원 꺼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자유방임적인 국가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현재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거의 모든 나라에서 정부의 과학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지원 당연시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원자의 구조나 시공간의 본질을 탐구하는 것처럼 전혀 실용적으로 보이지 않는 연구조차도 핵폭탄의 이론적 토대 제공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지극히 순수한 연구도 언젠가는 매우 실용적인 성과 줄 수 있음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그러나 언제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케블레스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「미국의 거대과학과 거대정치」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건설을 옹호하는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건설을 반대하는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휴먼게놈프로젝트의 옹호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반대 근거는 무엇이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SC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프로젝트는 좌초하고 휴먼게놈프로젝트는 살아남은 이유는 무엇일까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과학비지니스벨트에 대해서도 찬반 의견이 있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(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부지 선정 문제가 아님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혁명기의 과학자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은 생활비를 어디서 얻었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4" name="Picture 2" descr="http://c.ask.nate.com/imgs/qrsi.php/8860082/11821248/0/1/A/%EC%A7%80%ED%8F%90%EB%A7%8C%EC%9B%90%20%EB%89%B4%EC%8B%9C%EC%8A%A4.jpg"/>
          <p:cNvPicPr/>
          <p:nvPr/>
        </p:nvPicPr>
        <p:blipFill>
          <a:blip r:embed="rId1"/>
          <a:stretch/>
        </p:blipFill>
        <p:spPr>
          <a:xfrm>
            <a:off x="2195640" y="563400"/>
            <a:ext cx="476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학의 교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강의에 대한 보수 제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구 공간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학 분야에 한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아리스토텔레스주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720" y="2420640"/>
            <a:ext cx="46432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 갈릴레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720" y="3933720"/>
            <a:ext cx="4643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학의 수학 교수에서 메디치 궁정의 철학자 겸 수학자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리고 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9" name="Picture 6" descr="Galileo"/>
          <p:cNvPicPr/>
          <p:nvPr/>
        </p:nvPicPr>
        <p:blipFill>
          <a:blip r:embed="rId1"/>
          <a:stretch/>
        </p:blipFill>
        <p:spPr>
          <a:xfrm>
            <a:off x="395280" y="1341360"/>
            <a:ext cx="3930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5516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61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경 가르파레 몰라가 코시모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와 메디치가의 별들의 발견을 기념하기 위해 주조한 타원형 메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2" descr="http://walker71.com.ne.kr/BILAO003.JPG"/>
          <p:cNvPicPr/>
          <p:nvPr/>
        </p:nvPicPr>
        <p:blipFill>
          <a:blip r:embed="rId1"/>
          <a:stretch/>
        </p:blipFill>
        <p:spPr>
          <a:xfrm>
            <a:off x="515880" y="765000"/>
            <a:ext cx="8159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alker71.com.ne.kr/BILAO004.JPG"/>
          <p:cNvPicPr/>
          <p:nvPr/>
        </p:nvPicPr>
        <p:blipFill>
          <a:blip r:embed="rId1"/>
          <a:stretch/>
        </p:blipFill>
        <p:spPr>
          <a:xfrm>
            <a:off x="324000" y="476280"/>
            <a:ext cx="8332560" cy="5877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772400" cy="792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피에트로 다 코르토나가 피렌체에 있는 팔라쪼 피티의 주피터의 방 천장에 그린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&lt;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중요 덕목들에 둘러싸인 주피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&gt;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안정한 개인 후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티코의 성공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vs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갈릴레오의 실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 학회의 탄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지식의 공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승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확산을 위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2:13:27Z</dcterms:created>
  <dc:creator>zolaist</dc:creator>
  <dc:description/>
  <dc:language>en-US</dc:language>
  <cp:lastModifiedBy>zolaist</cp:lastModifiedBy>
  <dcterms:modified xsi:type="dcterms:W3CDTF">2011-06-03T05:59:33Z</dcterms:modified>
  <cp:revision>3</cp:revision>
  <dc:subject/>
  <dc:title>과학의 제도적 기반</dc:title>
</cp:coreProperties>
</file>